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A0C-9A33-45F3-8483-21D6BBB5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2F0-92C9-46AA-815D-CF38932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6F1-4753-44D1-9679-5EF873F8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A71-6579-4F43-A9F1-222D4014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BF7-70BF-4A2A-A629-50F9FA40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7B2-AC17-4CE5-9BDE-EF0902C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172-0CA2-4383-B147-8AA517A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B15-7041-4031-827D-8C92ECBF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746-6A3F-41A3-B657-0E2D28B6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8CA-F8CE-4A49-A78E-06818CB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A70-FDDF-4222-B6B8-C328556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F49-D8DB-4C4C-BD44-75BBC19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EEED-08CE-4E38-BCFE-11586095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4200"/>
            </a:b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Watch someone use a cell phone or send an e-mail.  Science makes keeping in touch easy.  How many ways can we communicate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4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u know there are many ways to keep in touch.  How do you keep in touch with your family?  How can we show people that we car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sabel and the giant make a circus.  The giant juggles, and Isabel tumbles.  What else do circus people do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signs.  Have you ever seen a sign that tells you a phone is around?  Some signs tell us to yield to people riding a bike.  What signs have you se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2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is week we read about different ways to communicate.  Talking is just one way.  What are some other ways to communica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1-06T19:36:13Z</dcterms:modified>
  <cp:revision>45</cp:revision>
  <dc:subject/>
  <dc:title> Morning Warm- Up! The cat needs some water.  The dog wants a bone.  That bird lives in a birdhouse where she feels quite at home.  How do people take care of pets?</dc:title>
</cp:coreProperties>
</file>